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52818-5F30-4A09-B502-2903AA65D6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FB1CF-4750-432C-A474-A40284972C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79485-223A-4EFB-82DD-4CA67E9BB4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3FC4D-E084-4314-A51D-2C7857F37B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B6B8C-6B94-43AA-99B6-C076B184B1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63F3B-8DF9-4731-968A-1D18929C80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25B18-D1C7-4FCC-B604-402477FE33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7DDF2-74EC-4E56-B5F9-F23FEC7472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13610-F492-4013-B2AD-4C16C6A796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EE7F3-4007-4D1D-91F9-A86484B30C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A1000-51F0-4B63-913B-5465D47F57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1F41D-BFF8-4C78-8C1F-5EFD6988FF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B3DEF-FA38-4D62-B6AB-B3ECC3C047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90978-F369-4FDD-B28D-BF7712639F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E7E8C-28BE-437D-B763-924279997B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BD6F5-211F-401A-9A20-80B5B84131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3EA45-6E8D-4F02-A861-AE671FC193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94B3E-E04A-4237-80F0-49370A8BF1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D84A0-7938-47F4-B419-C0D8316C72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61E5E-42DD-4AD9-B7F4-C9697AFD7E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11CE8-C344-474B-A7FB-26075F9672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2C2B2-D9BF-4720-9235-99E736E691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26856-59D6-4222-9D73-1B0118461B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BD03B-3208-451D-A186-079F81D173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F61D2-253C-423C-A77D-705A8185C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2CA1A-0608-402A-B2D2-1811DA906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EF2DE-221D-46B2-A997-0DB6C2A0D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F96F9-A10F-4D0C-9932-106E072E4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0F29F-2849-469A-AD5C-D2C9EA515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36873-8335-49EE-A7A6-DBC813376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07E43-8C37-4B41-9C16-495F24D30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A6CF5-3065-46B4-90FC-8C9F97F4D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4CF8D-7CFC-40F3-A96E-9DEC5FCD5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E117B-1A63-401E-AA92-32015548F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E8A35-640B-462F-A33E-7B1A1E939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5B529-EFC3-4844-AC30-F05544B23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E4EC1-507F-4850-AB13-B59C748769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quizlet.com/6402624/biology-disciplines-flash-cards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biology-nation.com/Biology_by_Course.htm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ology Discipline Balderdas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om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tudy of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omes of organis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om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tudy of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genomes of organis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c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tudy of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uys’ reproductive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a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cer/tumo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c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tudy of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uys’ reproductive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a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ancer/tumo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chthy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tudy of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asi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chi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chthy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tudy of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asi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chi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fi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mn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tudy of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k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land wa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mn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tudy of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k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inland wa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mat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tudy of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e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undwo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k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mat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tudy of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e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roundwo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k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on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y of robotic 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y of ey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y of biology &amp; mechanics working toge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ication of biological methods to the study and design of techn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rcin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tudy of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ustace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cino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c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rcin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tudy of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rustace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cino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c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izlet.c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eat website for creating or finding flashcards for review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quizlet.com/6402624/biology-disciplines-flash-cards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detailed list of Biology discipline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biology-nation.com/Biology_by_Course.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on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y of robotic 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y of ey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y of biology &amp; mechanics working toge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pplication of biological methods to the study and design of techn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yc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tudy of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the brain wo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human b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ga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v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yc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tudy of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the brain wo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human b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lga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v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docrin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tudy of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li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dosco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rmones and glands of the bo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 bal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docrin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tudy of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li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dosco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hormones and glands of the bo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 bal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pidemi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tudy of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eases and popul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u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k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i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pidemi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tudy of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iseases and popul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u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k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i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8T04:21:30Z</dcterms:created>
  <dc:creator>rubina khan</dc:creator>
  <dc:description/>
  <dc:language>en-US</dc:language>
  <cp:lastModifiedBy>rubina khan</cp:lastModifiedBy>
  <dcterms:modified xsi:type="dcterms:W3CDTF">2015-09-10T03:58:16Z</dcterms:modified>
  <cp:revision>270</cp:revision>
  <dc:subject/>
  <dc:title>Biology Disciplines</dc:title>
</cp:coreProperties>
</file>